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5B4-B1A6-41E5-AF60-D1059958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71B-7858-4BE3-8758-828084D8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8BC-6B9C-40A7-A1ED-0E2E3975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34D-2D05-4C39-9B5D-825C1EE8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3E7F-9BCB-4BF7-B7DF-6A802CCF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19858-E961-4705-913A-0D31371D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29271-EF1F-4504-BFCB-0BE43A6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E2F5B-A264-426E-A0EE-D079B83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81BD9-579E-4096-96AB-1DCE7C45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FCFC0-592B-45E1-9EC6-E8336316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6FA9B-CF93-4A19-A2F7-45CACD21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168-C90D-4D68-889D-E03A3C11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E1961-E628-4F8C-8E76-CE09C98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4456-C8DF-4A83-8434-A73E4E7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61E36-749D-4F11-9D8D-35D6360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B74EB-53F5-40CD-AA27-B20C2006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DDF4-E9D0-408B-808F-EA1881C7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96F4-152C-42AA-8E4D-D56B314E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0CD-7849-4BDF-9AB2-B74C6BD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D46-EF6A-43C2-9C7B-1023C92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B9F-0D42-40C9-BEBB-EC84C5BC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A92-2FA5-4A28-B264-AE86E05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3C5-BBF1-4852-B6CA-3E15146D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13F-2B1C-4B31-8930-A6F5ED4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ACC-1606-4571-8C88-CF087E1FEE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550-29BF-4A82-9243-8D6E4A3141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Presented to you by </a:t>
            </a:r>
            <a:br>
              <a:rPr sz="4000"/>
            </a:b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Year 4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3499920"/>
            <a:ext cx="82915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Which children have made positive choices this wee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Which children are receiving your Principal’s Certificat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620640"/>
            <a:ext cx="853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99"/>
                </a:solidFill>
                <a:latin typeface="Kristen ITC"/>
              </a:rPr>
              <a:t>Principal Certifica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26334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Chiller"/>
              </a:rPr>
              <a:t>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Kristen ITC"/>
              </a:rPr>
              <a:t>Environmental Awar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99"/>
                </a:solidFill>
                <a:latin typeface="Chiller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Kristen ITC"/>
              </a:rPr>
              <a:t>Could the “E” Monitors please present the Environmental Award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0360" y="365436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900" spc="-1" strike="noStrike">
                <a:solidFill>
                  <a:srgbClr val="000099"/>
                </a:solidFill>
                <a:latin typeface="Kristen ITC"/>
              </a:rPr>
              <a:t>Mr Ashurst and House Leaders, which house is in the lead this week?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00000" y="1990440"/>
            <a:ext cx="2945880" cy="2171880"/>
            <a:chOff x="900000" y="1990440"/>
            <a:chExt cx="2945880" cy="2171880"/>
          </a:xfrm>
        </p:grpSpPr>
        <p:grpSp>
          <p:nvGrpSpPr>
            <p:cNvPr id="108" name=""/>
            <p:cNvGrpSpPr/>
            <p:nvPr/>
          </p:nvGrpSpPr>
          <p:grpSpPr>
            <a:xfrm>
              <a:off x="900000" y="2171520"/>
              <a:ext cx="1178280" cy="1990800"/>
              <a:chOff x="900000" y="2171520"/>
              <a:chExt cx="1178280" cy="1990800"/>
            </a:xfrm>
          </p:grpSpPr>
          <p:sp>
            <p:nvSpPr>
              <p:cNvPr id="109" name=""/>
              <p:cNvSpPr/>
              <p:nvPr/>
            </p:nvSpPr>
            <p:spPr>
              <a:xfrm>
                <a:off x="1023480" y="273816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900000" y="231444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183680" y="217152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80720" y="279540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75960" y="330516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80440" y="331632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832760" y="1990440"/>
              <a:ext cx="2013120" cy="1855800"/>
              <a:chOff x="1832760" y="1990440"/>
              <a:chExt cx="2013120" cy="1855800"/>
            </a:xfrm>
          </p:grpSpPr>
          <p:sp>
            <p:nvSpPr>
              <p:cNvPr id="116" name=""/>
              <p:cNvSpPr/>
              <p:nvPr/>
            </p:nvSpPr>
            <p:spPr>
              <a:xfrm>
                <a:off x="1849680" y="2009520"/>
                <a:ext cx="197532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1832760" y="1990440"/>
                <a:ext cx="2013120" cy="1855800"/>
                <a:chOff x="1832760" y="1990440"/>
                <a:chExt cx="2013120" cy="1855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832760" y="3176280"/>
                  <a:ext cx="192456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922760" y="1990440"/>
                  <a:ext cx="192312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06920" y="225252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"/>
          <p:cNvGrpSpPr/>
          <p:nvPr/>
        </p:nvGrpSpPr>
        <p:grpSpPr>
          <a:xfrm>
            <a:off x="5076720" y="1965240"/>
            <a:ext cx="2945880" cy="2171880"/>
            <a:chOff x="5076720" y="1965240"/>
            <a:chExt cx="2945880" cy="2171880"/>
          </a:xfrm>
        </p:grpSpPr>
        <p:grpSp>
          <p:nvGrpSpPr>
            <p:cNvPr id="122" name=""/>
            <p:cNvGrpSpPr/>
            <p:nvPr/>
          </p:nvGrpSpPr>
          <p:grpSpPr>
            <a:xfrm>
              <a:off x="5076720" y="2146320"/>
              <a:ext cx="1178280" cy="1990800"/>
              <a:chOff x="5076720" y="2146320"/>
              <a:chExt cx="1178280" cy="1990800"/>
            </a:xfrm>
          </p:grpSpPr>
          <p:sp>
            <p:nvSpPr>
              <p:cNvPr id="123" name=""/>
              <p:cNvSpPr/>
              <p:nvPr/>
            </p:nvSpPr>
            <p:spPr>
              <a:xfrm>
                <a:off x="5200200" y="271296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76720" y="228924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0400" y="214632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257440" y="277020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52680" y="327996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57160" y="329112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009480" y="1965240"/>
              <a:ext cx="2013120" cy="1855800"/>
              <a:chOff x="6009480" y="1965240"/>
              <a:chExt cx="2013120" cy="1855800"/>
            </a:xfrm>
          </p:grpSpPr>
          <p:sp>
            <p:nvSpPr>
              <p:cNvPr id="130" name=""/>
              <p:cNvSpPr/>
              <p:nvPr/>
            </p:nvSpPr>
            <p:spPr>
              <a:xfrm>
                <a:off x="6026400" y="1984320"/>
                <a:ext cx="197532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6009480" y="1965240"/>
                <a:ext cx="2013120" cy="1855800"/>
                <a:chOff x="6009480" y="1965240"/>
                <a:chExt cx="2013120" cy="1855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009480" y="3151080"/>
                  <a:ext cx="192456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99480" y="1965240"/>
                  <a:ext cx="192312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083640" y="222732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971640" y="4268520"/>
            <a:ext cx="2945520" cy="2171880"/>
            <a:chOff x="971640" y="4268520"/>
            <a:chExt cx="2945520" cy="2171880"/>
          </a:xfrm>
        </p:grpSpPr>
        <p:grpSp>
          <p:nvGrpSpPr>
            <p:cNvPr id="136" name=""/>
            <p:cNvGrpSpPr/>
            <p:nvPr/>
          </p:nvGrpSpPr>
          <p:grpSpPr>
            <a:xfrm>
              <a:off x="971640" y="4449600"/>
              <a:ext cx="1178280" cy="1990800"/>
              <a:chOff x="971640" y="4449600"/>
              <a:chExt cx="1178280" cy="1990800"/>
            </a:xfrm>
          </p:grpSpPr>
          <p:sp>
            <p:nvSpPr>
              <p:cNvPr id="137" name=""/>
              <p:cNvSpPr/>
              <p:nvPr/>
            </p:nvSpPr>
            <p:spPr>
              <a:xfrm>
                <a:off x="1095120" y="501624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459252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55320" y="444960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52360" y="507348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47600" y="558324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52080" y="559440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904400" y="4268520"/>
              <a:ext cx="2012760" cy="1855800"/>
              <a:chOff x="1904400" y="4268520"/>
              <a:chExt cx="2012760" cy="185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921320" y="4287600"/>
                <a:ext cx="197496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904400" y="4268520"/>
                <a:ext cx="2012760" cy="1855800"/>
                <a:chOff x="1904400" y="4268520"/>
                <a:chExt cx="2012760" cy="18558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904400" y="5454360"/>
                  <a:ext cx="192420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94400" y="4268520"/>
                  <a:ext cx="192276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78560" y="453060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5219640" y="4268520"/>
            <a:ext cx="2945520" cy="2171880"/>
            <a:chOff x="5219640" y="4268520"/>
            <a:chExt cx="2945520" cy="2171880"/>
          </a:xfrm>
        </p:grpSpPr>
        <p:grpSp>
          <p:nvGrpSpPr>
            <p:cNvPr id="150" name=""/>
            <p:cNvGrpSpPr/>
            <p:nvPr/>
          </p:nvGrpSpPr>
          <p:grpSpPr>
            <a:xfrm>
              <a:off x="5219640" y="4449600"/>
              <a:ext cx="1178280" cy="1990800"/>
              <a:chOff x="5219640" y="4449600"/>
              <a:chExt cx="1178280" cy="1990800"/>
            </a:xfrm>
          </p:grpSpPr>
          <p:sp>
            <p:nvSpPr>
              <p:cNvPr id="151" name=""/>
              <p:cNvSpPr/>
              <p:nvPr/>
            </p:nvSpPr>
            <p:spPr>
              <a:xfrm>
                <a:off x="5343120" y="5016240"/>
                <a:ext cx="398160" cy="725760"/>
              </a:xfrm>
              <a:custGeom>
                <a:avLst/>
                <a:gdLst/>
                <a:ahLst/>
                <a:rect l="l" t="t" r="r" b="b"/>
                <a:pathLst>
                  <a:path w="502" h="915">
                    <a:moveTo>
                      <a:pt x="179" y="6"/>
                    </a:moveTo>
                    <a:lnTo>
                      <a:pt x="255" y="0"/>
                    </a:lnTo>
                    <a:lnTo>
                      <a:pt x="315" y="6"/>
                    </a:lnTo>
                    <a:lnTo>
                      <a:pt x="358" y="25"/>
                    </a:lnTo>
                    <a:lnTo>
                      <a:pt x="389" y="50"/>
                    </a:lnTo>
                    <a:lnTo>
                      <a:pt x="417" y="91"/>
                    </a:lnTo>
                    <a:lnTo>
                      <a:pt x="441" y="138"/>
                    </a:lnTo>
                    <a:lnTo>
                      <a:pt x="462" y="197"/>
                    </a:lnTo>
                    <a:lnTo>
                      <a:pt x="477" y="267"/>
                    </a:lnTo>
                    <a:lnTo>
                      <a:pt x="492" y="344"/>
                    </a:lnTo>
                    <a:lnTo>
                      <a:pt x="496" y="427"/>
                    </a:lnTo>
                    <a:lnTo>
                      <a:pt x="502" y="514"/>
                    </a:lnTo>
                    <a:lnTo>
                      <a:pt x="494" y="582"/>
                    </a:lnTo>
                    <a:lnTo>
                      <a:pt x="475" y="658"/>
                    </a:lnTo>
                    <a:lnTo>
                      <a:pt x="443" y="724"/>
                    </a:lnTo>
                    <a:lnTo>
                      <a:pt x="400" y="792"/>
                    </a:lnTo>
                    <a:lnTo>
                      <a:pt x="355" y="839"/>
                    </a:lnTo>
                    <a:lnTo>
                      <a:pt x="290" y="881"/>
                    </a:lnTo>
                    <a:lnTo>
                      <a:pt x="223" y="905"/>
                    </a:lnTo>
                    <a:lnTo>
                      <a:pt x="162" y="915"/>
                    </a:lnTo>
                    <a:lnTo>
                      <a:pt x="111" y="907"/>
                    </a:lnTo>
                    <a:lnTo>
                      <a:pt x="66" y="886"/>
                    </a:lnTo>
                    <a:lnTo>
                      <a:pt x="36" y="856"/>
                    </a:lnTo>
                    <a:lnTo>
                      <a:pt x="11" y="813"/>
                    </a:lnTo>
                    <a:lnTo>
                      <a:pt x="0" y="762"/>
                    </a:lnTo>
                    <a:lnTo>
                      <a:pt x="0" y="709"/>
                    </a:lnTo>
                    <a:lnTo>
                      <a:pt x="11" y="658"/>
                    </a:lnTo>
                    <a:lnTo>
                      <a:pt x="36" y="616"/>
                    </a:lnTo>
                    <a:lnTo>
                      <a:pt x="73" y="578"/>
                    </a:lnTo>
                    <a:lnTo>
                      <a:pt x="117" y="544"/>
                    </a:lnTo>
                    <a:lnTo>
                      <a:pt x="136" y="514"/>
                    </a:lnTo>
                    <a:lnTo>
                      <a:pt x="143" y="488"/>
                    </a:lnTo>
                    <a:lnTo>
                      <a:pt x="141" y="450"/>
                    </a:lnTo>
                    <a:lnTo>
                      <a:pt x="130" y="391"/>
                    </a:lnTo>
                    <a:lnTo>
                      <a:pt x="117" y="331"/>
                    </a:lnTo>
                    <a:lnTo>
                      <a:pt x="96" y="289"/>
                    </a:lnTo>
                    <a:lnTo>
                      <a:pt x="62" y="240"/>
                    </a:lnTo>
                    <a:lnTo>
                      <a:pt x="49" y="204"/>
                    </a:lnTo>
                    <a:lnTo>
                      <a:pt x="43" y="161"/>
                    </a:lnTo>
                    <a:lnTo>
                      <a:pt x="49" y="110"/>
                    </a:lnTo>
                    <a:lnTo>
                      <a:pt x="73" y="67"/>
                    </a:lnTo>
                    <a:lnTo>
                      <a:pt x="102" y="40"/>
                    </a:lnTo>
                    <a:lnTo>
                      <a:pt x="138" y="23"/>
                    </a:lnTo>
                    <a:lnTo>
                      <a:pt x="164" y="12"/>
                    </a:lnTo>
                    <a:lnTo>
                      <a:pt x="219" y="2"/>
                    </a:lnTo>
                    <a:lnTo>
                      <a:pt x="17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19640" y="4592520"/>
                <a:ext cx="453600" cy="387360"/>
              </a:xfrm>
              <a:custGeom>
                <a:avLst/>
                <a:gdLst/>
                <a:ahLst/>
                <a:rect l="l" t="t" r="r" b="b"/>
                <a:pathLst>
                  <a:path w="572" h="487">
                    <a:moveTo>
                      <a:pt x="415" y="289"/>
                    </a:moveTo>
                    <a:lnTo>
                      <a:pt x="400" y="230"/>
                    </a:lnTo>
                    <a:lnTo>
                      <a:pt x="381" y="179"/>
                    </a:lnTo>
                    <a:lnTo>
                      <a:pt x="361" y="140"/>
                    </a:lnTo>
                    <a:lnTo>
                      <a:pt x="330" y="102"/>
                    </a:lnTo>
                    <a:lnTo>
                      <a:pt x="295" y="60"/>
                    </a:lnTo>
                    <a:lnTo>
                      <a:pt x="261" y="32"/>
                    </a:lnTo>
                    <a:lnTo>
                      <a:pt x="234" y="17"/>
                    </a:lnTo>
                    <a:lnTo>
                      <a:pt x="195" y="6"/>
                    </a:lnTo>
                    <a:lnTo>
                      <a:pt x="149" y="0"/>
                    </a:lnTo>
                    <a:lnTo>
                      <a:pt x="108" y="6"/>
                    </a:lnTo>
                    <a:lnTo>
                      <a:pt x="68" y="23"/>
                    </a:lnTo>
                    <a:lnTo>
                      <a:pt x="38" y="51"/>
                    </a:lnTo>
                    <a:lnTo>
                      <a:pt x="11" y="100"/>
                    </a:lnTo>
                    <a:lnTo>
                      <a:pt x="0" y="147"/>
                    </a:lnTo>
                    <a:lnTo>
                      <a:pt x="4" y="198"/>
                    </a:lnTo>
                    <a:lnTo>
                      <a:pt x="11" y="249"/>
                    </a:lnTo>
                    <a:lnTo>
                      <a:pt x="30" y="298"/>
                    </a:lnTo>
                    <a:lnTo>
                      <a:pt x="55" y="342"/>
                    </a:lnTo>
                    <a:lnTo>
                      <a:pt x="96" y="381"/>
                    </a:lnTo>
                    <a:lnTo>
                      <a:pt x="140" y="417"/>
                    </a:lnTo>
                    <a:lnTo>
                      <a:pt x="191" y="448"/>
                    </a:lnTo>
                    <a:lnTo>
                      <a:pt x="244" y="472"/>
                    </a:lnTo>
                    <a:lnTo>
                      <a:pt x="296" y="487"/>
                    </a:lnTo>
                    <a:lnTo>
                      <a:pt x="340" y="487"/>
                    </a:lnTo>
                    <a:lnTo>
                      <a:pt x="370" y="476"/>
                    </a:lnTo>
                    <a:lnTo>
                      <a:pt x="391" y="448"/>
                    </a:lnTo>
                    <a:lnTo>
                      <a:pt x="408" y="410"/>
                    </a:lnTo>
                    <a:lnTo>
                      <a:pt x="413" y="381"/>
                    </a:lnTo>
                    <a:lnTo>
                      <a:pt x="413" y="359"/>
                    </a:lnTo>
                    <a:lnTo>
                      <a:pt x="457" y="391"/>
                    </a:lnTo>
                    <a:lnTo>
                      <a:pt x="491" y="410"/>
                    </a:lnTo>
                    <a:lnTo>
                      <a:pt x="529" y="417"/>
                    </a:lnTo>
                    <a:lnTo>
                      <a:pt x="559" y="410"/>
                    </a:lnTo>
                    <a:lnTo>
                      <a:pt x="572" y="391"/>
                    </a:lnTo>
                    <a:lnTo>
                      <a:pt x="568" y="368"/>
                    </a:lnTo>
                    <a:lnTo>
                      <a:pt x="557" y="351"/>
                    </a:lnTo>
                    <a:lnTo>
                      <a:pt x="532" y="340"/>
                    </a:lnTo>
                    <a:lnTo>
                      <a:pt x="495" y="330"/>
                    </a:lnTo>
                    <a:lnTo>
                      <a:pt x="466" y="323"/>
                    </a:lnTo>
                    <a:lnTo>
                      <a:pt x="438" y="308"/>
                    </a:lnTo>
                    <a:lnTo>
                      <a:pt x="415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03320" y="4449600"/>
                <a:ext cx="894600" cy="671400"/>
              </a:xfrm>
              <a:custGeom>
                <a:avLst/>
                <a:gdLst/>
                <a:ahLst/>
                <a:rect l="l" t="t" r="r" b="b"/>
                <a:pathLst>
                  <a:path w="1127" h="847">
                    <a:moveTo>
                      <a:pt x="98" y="724"/>
                    </a:moveTo>
                    <a:lnTo>
                      <a:pt x="54" y="724"/>
                    </a:lnTo>
                    <a:lnTo>
                      <a:pt x="47" y="726"/>
                    </a:lnTo>
                    <a:lnTo>
                      <a:pt x="11" y="741"/>
                    </a:lnTo>
                    <a:lnTo>
                      <a:pt x="0" y="769"/>
                    </a:lnTo>
                    <a:lnTo>
                      <a:pt x="7" y="805"/>
                    </a:lnTo>
                    <a:lnTo>
                      <a:pt x="45" y="832"/>
                    </a:lnTo>
                    <a:lnTo>
                      <a:pt x="113" y="847"/>
                    </a:lnTo>
                    <a:lnTo>
                      <a:pt x="183" y="845"/>
                    </a:lnTo>
                    <a:lnTo>
                      <a:pt x="243" y="832"/>
                    </a:lnTo>
                    <a:lnTo>
                      <a:pt x="298" y="805"/>
                    </a:lnTo>
                    <a:lnTo>
                      <a:pt x="355" y="764"/>
                    </a:lnTo>
                    <a:lnTo>
                      <a:pt x="413" y="707"/>
                    </a:lnTo>
                    <a:lnTo>
                      <a:pt x="474" y="631"/>
                    </a:lnTo>
                    <a:lnTo>
                      <a:pt x="515" y="565"/>
                    </a:lnTo>
                    <a:lnTo>
                      <a:pt x="557" y="493"/>
                    </a:lnTo>
                    <a:lnTo>
                      <a:pt x="596" y="425"/>
                    </a:lnTo>
                    <a:lnTo>
                      <a:pt x="634" y="376"/>
                    </a:lnTo>
                    <a:lnTo>
                      <a:pt x="677" y="318"/>
                    </a:lnTo>
                    <a:lnTo>
                      <a:pt x="725" y="265"/>
                    </a:lnTo>
                    <a:lnTo>
                      <a:pt x="772" y="223"/>
                    </a:lnTo>
                    <a:lnTo>
                      <a:pt x="813" y="199"/>
                    </a:lnTo>
                    <a:lnTo>
                      <a:pt x="851" y="197"/>
                    </a:lnTo>
                    <a:lnTo>
                      <a:pt x="881" y="208"/>
                    </a:lnTo>
                    <a:lnTo>
                      <a:pt x="898" y="225"/>
                    </a:lnTo>
                    <a:lnTo>
                      <a:pt x="911" y="257"/>
                    </a:lnTo>
                    <a:lnTo>
                      <a:pt x="915" y="284"/>
                    </a:lnTo>
                    <a:lnTo>
                      <a:pt x="915" y="314"/>
                    </a:lnTo>
                    <a:lnTo>
                      <a:pt x="927" y="331"/>
                    </a:lnTo>
                    <a:lnTo>
                      <a:pt x="951" y="335"/>
                    </a:lnTo>
                    <a:lnTo>
                      <a:pt x="970" y="323"/>
                    </a:lnTo>
                    <a:lnTo>
                      <a:pt x="979" y="301"/>
                    </a:lnTo>
                    <a:lnTo>
                      <a:pt x="985" y="276"/>
                    </a:lnTo>
                    <a:lnTo>
                      <a:pt x="976" y="248"/>
                    </a:lnTo>
                    <a:lnTo>
                      <a:pt x="961" y="208"/>
                    </a:lnTo>
                    <a:lnTo>
                      <a:pt x="955" y="186"/>
                    </a:lnTo>
                    <a:lnTo>
                      <a:pt x="961" y="157"/>
                    </a:lnTo>
                    <a:lnTo>
                      <a:pt x="972" y="131"/>
                    </a:lnTo>
                    <a:lnTo>
                      <a:pt x="1004" y="102"/>
                    </a:lnTo>
                    <a:lnTo>
                      <a:pt x="1032" y="87"/>
                    </a:lnTo>
                    <a:lnTo>
                      <a:pt x="1072" y="78"/>
                    </a:lnTo>
                    <a:lnTo>
                      <a:pt x="1115" y="67"/>
                    </a:lnTo>
                    <a:lnTo>
                      <a:pt x="1108" y="68"/>
                    </a:lnTo>
                    <a:lnTo>
                      <a:pt x="1127" y="53"/>
                    </a:lnTo>
                    <a:lnTo>
                      <a:pt x="1125" y="36"/>
                    </a:lnTo>
                    <a:lnTo>
                      <a:pt x="1096" y="16"/>
                    </a:lnTo>
                    <a:lnTo>
                      <a:pt x="1036" y="0"/>
                    </a:lnTo>
                    <a:lnTo>
                      <a:pt x="970" y="10"/>
                    </a:lnTo>
                    <a:lnTo>
                      <a:pt x="911" y="34"/>
                    </a:lnTo>
                    <a:lnTo>
                      <a:pt x="866" y="80"/>
                    </a:lnTo>
                    <a:lnTo>
                      <a:pt x="836" y="110"/>
                    </a:lnTo>
                    <a:lnTo>
                      <a:pt x="789" y="135"/>
                    </a:lnTo>
                    <a:lnTo>
                      <a:pt x="732" y="165"/>
                    </a:lnTo>
                    <a:lnTo>
                      <a:pt x="679" y="208"/>
                    </a:lnTo>
                    <a:lnTo>
                      <a:pt x="623" y="263"/>
                    </a:lnTo>
                    <a:lnTo>
                      <a:pt x="562" y="325"/>
                    </a:lnTo>
                    <a:lnTo>
                      <a:pt x="519" y="386"/>
                    </a:lnTo>
                    <a:lnTo>
                      <a:pt x="475" y="454"/>
                    </a:lnTo>
                    <a:lnTo>
                      <a:pt x="424" y="524"/>
                    </a:lnTo>
                    <a:lnTo>
                      <a:pt x="373" y="590"/>
                    </a:lnTo>
                    <a:lnTo>
                      <a:pt x="321" y="641"/>
                    </a:lnTo>
                    <a:lnTo>
                      <a:pt x="262" y="682"/>
                    </a:lnTo>
                    <a:lnTo>
                      <a:pt x="196" y="713"/>
                    </a:lnTo>
                    <a:lnTo>
                      <a:pt x="132" y="720"/>
                    </a:lnTo>
                    <a:lnTo>
                      <a:pt x="98" y="7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0360" y="5073480"/>
                <a:ext cx="888120" cy="711360"/>
              </a:xfrm>
              <a:custGeom>
                <a:avLst/>
                <a:gdLst/>
                <a:ahLst/>
                <a:rect l="l" t="t" r="r" b="b"/>
                <a:pathLst>
                  <a:path w="1119" h="896">
                    <a:moveTo>
                      <a:pt x="158" y="81"/>
                    </a:moveTo>
                    <a:lnTo>
                      <a:pt x="130" y="29"/>
                    </a:lnTo>
                    <a:lnTo>
                      <a:pt x="88" y="0"/>
                    </a:lnTo>
                    <a:lnTo>
                      <a:pt x="41" y="4"/>
                    </a:lnTo>
                    <a:lnTo>
                      <a:pt x="11" y="30"/>
                    </a:lnTo>
                    <a:lnTo>
                      <a:pt x="0" y="81"/>
                    </a:lnTo>
                    <a:lnTo>
                      <a:pt x="13" y="125"/>
                    </a:lnTo>
                    <a:lnTo>
                      <a:pt x="45" y="170"/>
                    </a:lnTo>
                    <a:lnTo>
                      <a:pt x="96" y="227"/>
                    </a:lnTo>
                    <a:lnTo>
                      <a:pt x="156" y="278"/>
                    </a:lnTo>
                    <a:lnTo>
                      <a:pt x="228" y="336"/>
                    </a:lnTo>
                    <a:lnTo>
                      <a:pt x="315" y="399"/>
                    </a:lnTo>
                    <a:lnTo>
                      <a:pt x="400" y="450"/>
                    </a:lnTo>
                    <a:lnTo>
                      <a:pt x="541" y="540"/>
                    </a:lnTo>
                    <a:lnTo>
                      <a:pt x="662" y="603"/>
                    </a:lnTo>
                    <a:lnTo>
                      <a:pt x="792" y="678"/>
                    </a:lnTo>
                    <a:lnTo>
                      <a:pt x="856" y="720"/>
                    </a:lnTo>
                    <a:lnTo>
                      <a:pt x="890" y="765"/>
                    </a:lnTo>
                    <a:lnTo>
                      <a:pt x="904" y="811"/>
                    </a:lnTo>
                    <a:lnTo>
                      <a:pt x="917" y="850"/>
                    </a:lnTo>
                    <a:lnTo>
                      <a:pt x="941" y="880"/>
                    </a:lnTo>
                    <a:lnTo>
                      <a:pt x="985" y="896"/>
                    </a:lnTo>
                    <a:lnTo>
                      <a:pt x="1032" y="890"/>
                    </a:lnTo>
                    <a:lnTo>
                      <a:pt x="1075" y="884"/>
                    </a:lnTo>
                    <a:lnTo>
                      <a:pt x="1109" y="873"/>
                    </a:lnTo>
                    <a:lnTo>
                      <a:pt x="1119" y="845"/>
                    </a:lnTo>
                    <a:lnTo>
                      <a:pt x="1098" y="822"/>
                    </a:lnTo>
                    <a:lnTo>
                      <a:pt x="1053" y="822"/>
                    </a:lnTo>
                    <a:lnTo>
                      <a:pt x="1075" y="811"/>
                    </a:lnTo>
                    <a:lnTo>
                      <a:pt x="1081" y="794"/>
                    </a:lnTo>
                    <a:lnTo>
                      <a:pt x="1070" y="773"/>
                    </a:lnTo>
                    <a:lnTo>
                      <a:pt x="1036" y="769"/>
                    </a:lnTo>
                    <a:lnTo>
                      <a:pt x="994" y="771"/>
                    </a:lnTo>
                    <a:lnTo>
                      <a:pt x="977" y="752"/>
                    </a:lnTo>
                    <a:lnTo>
                      <a:pt x="998" y="727"/>
                    </a:lnTo>
                    <a:lnTo>
                      <a:pt x="1024" y="693"/>
                    </a:lnTo>
                    <a:lnTo>
                      <a:pt x="1047" y="675"/>
                    </a:lnTo>
                    <a:lnTo>
                      <a:pt x="1058" y="646"/>
                    </a:lnTo>
                    <a:lnTo>
                      <a:pt x="1057" y="627"/>
                    </a:lnTo>
                    <a:lnTo>
                      <a:pt x="1040" y="612"/>
                    </a:lnTo>
                    <a:lnTo>
                      <a:pt x="1015" y="612"/>
                    </a:lnTo>
                    <a:lnTo>
                      <a:pt x="990" y="624"/>
                    </a:lnTo>
                    <a:lnTo>
                      <a:pt x="979" y="642"/>
                    </a:lnTo>
                    <a:lnTo>
                      <a:pt x="973" y="669"/>
                    </a:lnTo>
                    <a:lnTo>
                      <a:pt x="964" y="695"/>
                    </a:lnTo>
                    <a:lnTo>
                      <a:pt x="945" y="703"/>
                    </a:lnTo>
                    <a:lnTo>
                      <a:pt x="926" y="703"/>
                    </a:lnTo>
                    <a:lnTo>
                      <a:pt x="885" y="678"/>
                    </a:lnTo>
                    <a:lnTo>
                      <a:pt x="836" y="642"/>
                    </a:lnTo>
                    <a:lnTo>
                      <a:pt x="768" y="593"/>
                    </a:lnTo>
                    <a:lnTo>
                      <a:pt x="690" y="539"/>
                    </a:lnTo>
                    <a:lnTo>
                      <a:pt x="619" y="489"/>
                    </a:lnTo>
                    <a:lnTo>
                      <a:pt x="534" y="425"/>
                    </a:lnTo>
                    <a:lnTo>
                      <a:pt x="466" y="361"/>
                    </a:lnTo>
                    <a:lnTo>
                      <a:pt x="392" y="289"/>
                    </a:lnTo>
                    <a:lnTo>
                      <a:pt x="302" y="217"/>
                    </a:lnTo>
                    <a:lnTo>
                      <a:pt x="234" y="168"/>
                    </a:lnTo>
                    <a:lnTo>
                      <a:pt x="186" y="123"/>
                    </a:lnTo>
                    <a:lnTo>
                      <a:pt x="158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5600" y="5583240"/>
                <a:ext cx="252000" cy="857160"/>
              </a:xfrm>
              <a:custGeom>
                <a:avLst/>
                <a:gdLst/>
                <a:ahLst/>
                <a:rect l="l" t="t" r="r" b="b"/>
                <a:pathLst>
                  <a:path w="317" h="1081">
                    <a:moveTo>
                      <a:pt x="76" y="135"/>
                    </a:moveTo>
                    <a:lnTo>
                      <a:pt x="114" y="61"/>
                    </a:lnTo>
                    <a:lnTo>
                      <a:pt x="148" y="17"/>
                    </a:lnTo>
                    <a:lnTo>
                      <a:pt x="182" y="0"/>
                    </a:lnTo>
                    <a:lnTo>
                      <a:pt x="214" y="0"/>
                    </a:lnTo>
                    <a:lnTo>
                      <a:pt x="250" y="17"/>
                    </a:lnTo>
                    <a:lnTo>
                      <a:pt x="267" y="36"/>
                    </a:lnTo>
                    <a:lnTo>
                      <a:pt x="278" y="74"/>
                    </a:lnTo>
                    <a:lnTo>
                      <a:pt x="274" y="112"/>
                    </a:lnTo>
                    <a:lnTo>
                      <a:pt x="250" y="148"/>
                    </a:lnTo>
                    <a:lnTo>
                      <a:pt x="212" y="182"/>
                    </a:lnTo>
                    <a:lnTo>
                      <a:pt x="172" y="214"/>
                    </a:lnTo>
                    <a:lnTo>
                      <a:pt x="138" y="257"/>
                    </a:lnTo>
                    <a:lnTo>
                      <a:pt x="112" y="299"/>
                    </a:lnTo>
                    <a:lnTo>
                      <a:pt x="93" y="350"/>
                    </a:lnTo>
                    <a:lnTo>
                      <a:pt x="85" y="382"/>
                    </a:lnTo>
                    <a:lnTo>
                      <a:pt x="87" y="403"/>
                    </a:lnTo>
                    <a:lnTo>
                      <a:pt x="110" y="427"/>
                    </a:lnTo>
                    <a:lnTo>
                      <a:pt x="163" y="486"/>
                    </a:lnTo>
                    <a:lnTo>
                      <a:pt x="199" y="548"/>
                    </a:lnTo>
                    <a:lnTo>
                      <a:pt x="223" y="605"/>
                    </a:lnTo>
                    <a:lnTo>
                      <a:pt x="246" y="680"/>
                    </a:lnTo>
                    <a:lnTo>
                      <a:pt x="263" y="769"/>
                    </a:lnTo>
                    <a:lnTo>
                      <a:pt x="276" y="815"/>
                    </a:lnTo>
                    <a:lnTo>
                      <a:pt x="302" y="845"/>
                    </a:lnTo>
                    <a:lnTo>
                      <a:pt x="317" y="894"/>
                    </a:lnTo>
                    <a:lnTo>
                      <a:pt x="312" y="926"/>
                    </a:lnTo>
                    <a:lnTo>
                      <a:pt x="293" y="947"/>
                    </a:lnTo>
                    <a:lnTo>
                      <a:pt x="246" y="960"/>
                    </a:lnTo>
                    <a:lnTo>
                      <a:pt x="174" y="986"/>
                    </a:lnTo>
                    <a:lnTo>
                      <a:pt x="121" y="1013"/>
                    </a:lnTo>
                    <a:lnTo>
                      <a:pt x="100" y="1032"/>
                    </a:lnTo>
                    <a:lnTo>
                      <a:pt x="83" y="1066"/>
                    </a:lnTo>
                    <a:lnTo>
                      <a:pt x="66" y="1079"/>
                    </a:lnTo>
                    <a:lnTo>
                      <a:pt x="36" y="1081"/>
                    </a:lnTo>
                    <a:lnTo>
                      <a:pt x="10" y="1062"/>
                    </a:lnTo>
                    <a:lnTo>
                      <a:pt x="0" y="1020"/>
                    </a:lnTo>
                    <a:lnTo>
                      <a:pt x="12" y="994"/>
                    </a:lnTo>
                    <a:lnTo>
                      <a:pt x="44" y="964"/>
                    </a:lnTo>
                    <a:lnTo>
                      <a:pt x="104" y="939"/>
                    </a:lnTo>
                    <a:lnTo>
                      <a:pt x="166" y="918"/>
                    </a:lnTo>
                    <a:lnTo>
                      <a:pt x="212" y="896"/>
                    </a:lnTo>
                    <a:lnTo>
                      <a:pt x="229" y="869"/>
                    </a:lnTo>
                    <a:lnTo>
                      <a:pt x="238" y="841"/>
                    </a:lnTo>
                    <a:lnTo>
                      <a:pt x="231" y="803"/>
                    </a:lnTo>
                    <a:lnTo>
                      <a:pt x="200" y="733"/>
                    </a:lnTo>
                    <a:lnTo>
                      <a:pt x="170" y="658"/>
                    </a:lnTo>
                    <a:lnTo>
                      <a:pt x="136" y="582"/>
                    </a:lnTo>
                    <a:lnTo>
                      <a:pt x="89" y="520"/>
                    </a:lnTo>
                    <a:lnTo>
                      <a:pt x="49" y="469"/>
                    </a:lnTo>
                    <a:lnTo>
                      <a:pt x="25" y="425"/>
                    </a:lnTo>
                    <a:lnTo>
                      <a:pt x="12" y="382"/>
                    </a:lnTo>
                    <a:lnTo>
                      <a:pt x="12" y="325"/>
                    </a:lnTo>
                    <a:lnTo>
                      <a:pt x="27" y="263"/>
                    </a:lnTo>
                    <a:lnTo>
                      <a:pt x="51" y="204"/>
                    </a:lnTo>
                    <a:lnTo>
                      <a:pt x="68" y="155"/>
                    </a:lnTo>
                    <a:lnTo>
                      <a:pt x="7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00080" y="5594400"/>
                <a:ext cx="420480" cy="745920"/>
              </a:xfrm>
              <a:custGeom>
                <a:avLst/>
                <a:gdLst/>
                <a:ahLst/>
                <a:rect l="l" t="t" r="r" b="b"/>
                <a:pathLst>
                  <a:path w="528" h="940">
                    <a:moveTo>
                      <a:pt x="262" y="185"/>
                    </a:moveTo>
                    <a:lnTo>
                      <a:pt x="168" y="66"/>
                    </a:lnTo>
                    <a:lnTo>
                      <a:pt x="102" y="5"/>
                    </a:lnTo>
                    <a:lnTo>
                      <a:pt x="66" y="0"/>
                    </a:lnTo>
                    <a:lnTo>
                      <a:pt x="28" y="17"/>
                    </a:lnTo>
                    <a:lnTo>
                      <a:pt x="6" y="56"/>
                    </a:lnTo>
                    <a:lnTo>
                      <a:pt x="0" y="92"/>
                    </a:lnTo>
                    <a:lnTo>
                      <a:pt x="17" y="134"/>
                    </a:lnTo>
                    <a:lnTo>
                      <a:pt x="43" y="155"/>
                    </a:lnTo>
                    <a:lnTo>
                      <a:pt x="102" y="189"/>
                    </a:lnTo>
                    <a:lnTo>
                      <a:pt x="168" y="241"/>
                    </a:lnTo>
                    <a:lnTo>
                      <a:pt x="208" y="281"/>
                    </a:lnTo>
                    <a:lnTo>
                      <a:pt x="230" y="313"/>
                    </a:lnTo>
                    <a:lnTo>
                      <a:pt x="242" y="351"/>
                    </a:lnTo>
                    <a:lnTo>
                      <a:pt x="238" y="370"/>
                    </a:lnTo>
                    <a:lnTo>
                      <a:pt x="223" y="385"/>
                    </a:lnTo>
                    <a:lnTo>
                      <a:pt x="191" y="444"/>
                    </a:lnTo>
                    <a:lnTo>
                      <a:pt x="177" y="496"/>
                    </a:lnTo>
                    <a:lnTo>
                      <a:pt x="172" y="559"/>
                    </a:lnTo>
                    <a:lnTo>
                      <a:pt x="168" y="623"/>
                    </a:lnTo>
                    <a:lnTo>
                      <a:pt x="177" y="695"/>
                    </a:lnTo>
                    <a:lnTo>
                      <a:pt x="189" y="767"/>
                    </a:lnTo>
                    <a:lnTo>
                      <a:pt x="189" y="810"/>
                    </a:lnTo>
                    <a:lnTo>
                      <a:pt x="191" y="852"/>
                    </a:lnTo>
                    <a:lnTo>
                      <a:pt x="204" y="874"/>
                    </a:lnTo>
                    <a:lnTo>
                      <a:pt x="215" y="882"/>
                    </a:lnTo>
                    <a:lnTo>
                      <a:pt x="240" y="887"/>
                    </a:lnTo>
                    <a:lnTo>
                      <a:pt x="274" y="878"/>
                    </a:lnTo>
                    <a:lnTo>
                      <a:pt x="315" y="872"/>
                    </a:lnTo>
                    <a:lnTo>
                      <a:pt x="372" y="882"/>
                    </a:lnTo>
                    <a:lnTo>
                      <a:pt x="428" y="904"/>
                    </a:lnTo>
                    <a:lnTo>
                      <a:pt x="476" y="938"/>
                    </a:lnTo>
                    <a:lnTo>
                      <a:pt x="496" y="940"/>
                    </a:lnTo>
                    <a:lnTo>
                      <a:pt x="513" y="931"/>
                    </a:lnTo>
                    <a:lnTo>
                      <a:pt x="528" y="906"/>
                    </a:lnTo>
                    <a:lnTo>
                      <a:pt x="528" y="855"/>
                    </a:lnTo>
                    <a:lnTo>
                      <a:pt x="506" y="838"/>
                    </a:lnTo>
                    <a:lnTo>
                      <a:pt x="476" y="831"/>
                    </a:lnTo>
                    <a:lnTo>
                      <a:pt x="404" y="823"/>
                    </a:lnTo>
                    <a:lnTo>
                      <a:pt x="338" y="806"/>
                    </a:lnTo>
                    <a:lnTo>
                      <a:pt x="274" y="785"/>
                    </a:lnTo>
                    <a:lnTo>
                      <a:pt x="245" y="755"/>
                    </a:lnTo>
                    <a:lnTo>
                      <a:pt x="240" y="710"/>
                    </a:lnTo>
                    <a:lnTo>
                      <a:pt x="238" y="634"/>
                    </a:lnTo>
                    <a:lnTo>
                      <a:pt x="255" y="547"/>
                    </a:lnTo>
                    <a:lnTo>
                      <a:pt x="276" y="481"/>
                    </a:lnTo>
                    <a:lnTo>
                      <a:pt x="310" y="417"/>
                    </a:lnTo>
                    <a:lnTo>
                      <a:pt x="334" y="374"/>
                    </a:lnTo>
                    <a:lnTo>
                      <a:pt x="340" y="343"/>
                    </a:lnTo>
                    <a:lnTo>
                      <a:pt x="340" y="309"/>
                    </a:lnTo>
                    <a:lnTo>
                      <a:pt x="330" y="279"/>
                    </a:lnTo>
                    <a:lnTo>
                      <a:pt x="304" y="230"/>
                    </a:lnTo>
                    <a:lnTo>
                      <a:pt x="281" y="202"/>
                    </a:lnTo>
                    <a:lnTo>
                      <a:pt x="262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152400" y="4268520"/>
              <a:ext cx="2012760" cy="1855800"/>
              <a:chOff x="6152400" y="4268520"/>
              <a:chExt cx="2012760" cy="1855800"/>
            </a:xfrm>
          </p:grpSpPr>
          <p:sp>
            <p:nvSpPr>
              <p:cNvPr id="158" name=""/>
              <p:cNvSpPr/>
              <p:nvPr/>
            </p:nvSpPr>
            <p:spPr>
              <a:xfrm>
                <a:off x="6169320" y="4287600"/>
                <a:ext cx="1974960" cy="1811520"/>
              </a:xfrm>
              <a:custGeom>
                <a:avLst/>
                <a:gdLst/>
                <a:ahLst/>
                <a:rect l="l" t="t" r="r" b="b"/>
                <a:pathLst>
                  <a:path w="2489" h="2282">
                    <a:moveTo>
                      <a:pt x="141" y="934"/>
                    </a:moveTo>
                    <a:lnTo>
                      <a:pt x="109" y="1139"/>
                    </a:lnTo>
                    <a:lnTo>
                      <a:pt x="119" y="1279"/>
                    </a:lnTo>
                    <a:lnTo>
                      <a:pt x="130" y="1421"/>
                    </a:lnTo>
                    <a:lnTo>
                      <a:pt x="115" y="1536"/>
                    </a:lnTo>
                    <a:lnTo>
                      <a:pt x="71" y="1653"/>
                    </a:lnTo>
                    <a:lnTo>
                      <a:pt x="62" y="1657"/>
                    </a:lnTo>
                    <a:lnTo>
                      <a:pt x="36" y="1716"/>
                    </a:lnTo>
                    <a:lnTo>
                      <a:pt x="0" y="1791"/>
                    </a:lnTo>
                    <a:lnTo>
                      <a:pt x="15" y="1831"/>
                    </a:lnTo>
                    <a:lnTo>
                      <a:pt x="68" y="1846"/>
                    </a:lnTo>
                    <a:lnTo>
                      <a:pt x="315" y="1850"/>
                    </a:lnTo>
                    <a:lnTo>
                      <a:pt x="475" y="1857"/>
                    </a:lnTo>
                    <a:lnTo>
                      <a:pt x="464" y="1861"/>
                    </a:lnTo>
                    <a:lnTo>
                      <a:pt x="613" y="1889"/>
                    </a:lnTo>
                    <a:lnTo>
                      <a:pt x="785" y="1952"/>
                    </a:lnTo>
                    <a:lnTo>
                      <a:pt x="966" y="2018"/>
                    </a:lnTo>
                    <a:lnTo>
                      <a:pt x="1202" y="2065"/>
                    </a:lnTo>
                    <a:lnTo>
                      <a:pt x="1383" y="2086"/>
                    </a:lnTo>
                    <a:lnTo>
                      <a:pt x="1591" y="2097"/>
                    </a:lnTo>
                    <a:lnTo>
                      <a:pt x="1787" y="2082"/>
                    </a:lnTo>
                    <a:lnTo>
                      <a:pt x="1940" y="2112"/>
                    </a:lnTo>
                    <a:lnTo>
                      <a:pt x="2085" y="2163"/>
                    </a:lnTo>
                    <a:lnTo>
                      <a:pt x="2372" y="2282"/>
                    </a:lnTo>
                    <a:lnTo>
                      <a:pt x="2380" y="2159"/>
                    </a:lnTo>
                    <a:lnTo>
                      <a:pt x="2365" y="2018"/>
                    </a:lnTo>
                    <a:lnTo>
                      <a:pt x="2310" y="1861"/>
                    </a:lnTo>
                    <a:lnTo>
                      <a:pt x="2301" y="1774"/>
                    </a:lnTo>
                    <a:lnTo>
                      <a:pt x="2321" y="1661"/>
                    </a:lnTo>
                    <a:lnTo>
                      <a:pt x="2361" y="1527"/>
                    </a:lnTo>
                    <a:lnTo>
                      <a:pt x="2403" y="1402"/>
                    </a:lnTo>
                    <a:lnTo>
                      <a:pt x="2403" y="1224"/>
                    </a:lnTo>
                    <a:lnTo>
                      <a:pt x="2387" y="1009"/>
                    </a:lnTo>
                    <a:lnTo>
                      <a:pt x="2372" y="837"/>
                    </a:lnTo>
                    <a:lnTo>
                      <a:pt x="2352" y="652"/>
                    </a:lnTo>
                    <a:lnTo>
                      <a:pt x="2318" y="467"/>
                    </a:lnTo>
                    <a:lnTo>
                      <a:pt x="2321" y="376"/>
                    </a:lnTo>
                    <a:lnTo>
                      <a:pt x="2359" y="267"/>
                    </a:lnTo>
                    <a:lnTo>
                      <a:pt x="2408" y="184"/>
                    </a:lnTo>
                    <a:lnTo>
                      <a:pt x="2489" y="99"/>
                    </a:lnTo>
                    <a:lnTo>
                      <a:pt x="2478" y="74"/>
                    </a:lnTo>
                    <a:lnTo>
                      <a:pt x="2399" y="31"/>
                    </a:lnTo>
                    <a:lnTo>
                      <a:pt x="2235" y="0"/>
                    </a:lnTo>
                    <a:lnTo>
                      <a:pt x="2053" y="0"/>
                    </a:lnTo>
                    <a:lnTo>
                      <a:pt x="1904" y="19"/>
                    </a:lnTo>
                    <a:lnTo>
                      <a:pt x="1732" y="70"/>
                    </a:lnTo>
                    <a:lnTo>
                      <a:pt x="1610" y="129"/>
                    </a:lnTo>
                    <a:lnTo>
                      <a:pt x="1480" y="208"/>
                    </a:lnTo>
                    <a:lnTo>
                      <a:pt x="1359" y="259"/>
                    </a:lnTo>
                    <a:lnTo>
                      <a:pt x="1195" y="289"/>
                    </a:lnTo>
                    <a:lnTo>
                      <a:pt x="994" y="291"/>
                    </a:lnTo>
                    <a:lnTo>
                      <a:pt x="825" y="274"/>
                    </a:lnTo>
                    <a:lnTo>
                      <a:pt x="600" y="255"/>
                    </a:lnTo>
                    <a:lnTo>
                      <a:pt x="585" y="259"/>
                    </a:lnTo>
                    <a:lnTo>
                      <a:pt x="409" y="252"/>
                    </a:lnTo>
                    <a:lnTo>
                      <a:pt x="279" y="267"/>
                    </a:lnTo>
                    <a:lnTo>
                      <a:pt x="160" y="318"/>
                    </a:lnTo>
                    <a:lnTo>
                      <a:pt x="109" y="365"/>
                    </a:lnTo>
                    <a:lnTo>
                      <a:pt x="94" y="439"/>
                    </a:lnTo>
                    <a:lnTo>
                      <a:pt x="153" y="565"/>
                    </a:lnTo>
                    <a:lnTo>
                      <a:pt x="170" y="682"/>
                    </a:lnTo>
                    <a:lnTo>
                      <a:pt x="170" y="816"/>
                    </a:lnTo>
                    <a:lnTo>
                      <a:pt x="141" y="9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6152400" y="4268520"/>
                <a:ext cx="2012760" cy="1855800"/>
                <a:chOff x="6152400" y="4268520"/>
                <a:chExt cx="2012760" cy="1855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152400" y="5454360"/>
                  <a:ext cx="1924200" cy="669960"/>
                </a:xfrm>
                <a:custGeom>
                  <a:avLst/>
                  <a:gdLst/>
                  <a:ahLst/>
                  <a:rect l="l" t="t" r="r" b="b"/>
                  <a:pathLst>
                    <a:path w="2426" h="844">
                      <a:moveTo>
                        <a:pt x="130" y="0"/>
                      </a:moveTo>
                      <a:lnTo>
                        <a:pt x="106" y="111"/>
                      </a:lnTo>
                      <a:lnTo>
                        <a:pt x="98" y="123"/>
                      </a:lnTo>
                      <a:lnTo>
                        <a:pt x="64" y="210"/>
                      </a:lnTo>
                      <a:lnTo>
                        <a:pt x="15" y="276"/>
                      </a:lnTo>
                      <a:lnTo>
                        <a:pt x="0" y="334"/>
                      </a:lnTo>
                      <a:lnTo>
                        <a:pt x="15" y="370"/>
                      </a:lnTo>
                      <a:lnTo>
                        <a:pt x="32" y="389"/>
                      </a:lnTo>
                      <a:lnTo>
                        <a:pt x="64" y="397"/>
                      </a:lnTo>
                      <a:lnTo>
                        <a:pt x="127" y="397"/>
                      </a:lnTo>
                      <a:lnTo>
                        <a:pt x="115" y="397"/>
                      </a:lnTo>
                      <a:lnTo>
                        <a:pt x="272" y="393"/>
                      </a:lnTo>
                      <a:lnTo>
                        <a:pt x="404" y="397"/>
                      </a:lnTo>
                      <a:lnTo>
                        <a:pt x="530" y="414"/>
                      </a:lnTo>
                      <a:lnTo>
                        <a:pt x="617" y="440"/>
                      </a:lnTo>
                      <a:lnTo>
                        <a:pt x="727" y="476"/>
                      </a:lnTo>
                      <a:lnTo>
                        <a:pt x="836" y="512"/>
                      </a:lnTo>
                      <a:lnTo>
                        <a:pt x="942" y="552"/>
                      </a:lnTo>
                      <a:lnTo>
                        <a:pt x="1051" y="586"/>
                      </a:lnTo>
                      <a:lnTo>
                        <a:pt x="1182" y="606"/>
                      </a:lnTo>
                      <a:lnTo>
                        <a:pt x="1319" y="629"/>
                      </a:lnTo>
                      <a:lnTo>
                        <a:pt x="1444" y="637"/>
                      </a:lnTo>
                      <a:lnTo>
                        <a:pt x="1593" y="637"/>
                      </a:lnTo>
                      <a:lnTo>
                        <a:pt x="1735" y="633"/>
                      </a:lnTo>
                      <a:lnTo>
                        <a:pt x="1897" y="640"/>
                      </a:lnTo>
                      <a:lnTo>
                        <a:pt x="2018" y="676"/>
                      </a:lnTo>
                      <a:lnTo>
                        <a:pt x="2163" y="723"/>
                      </a:lnTo>
                      <a:lnTo>
                        <a:pt x="2292" y="793"/>
                      </a:lnTo>
                      <a:lnTo>
                        <a:pt x="2386" y="844"/>
                      </a:lnTo>
                      <a:lnTo>
                        <a:pt x="2426" y="829"/>
                      </a:lnTo>
                      <a:lnTo>
                        <a:pt x="2426" y="795"/>
                      </a:lnTo>
                      <a:lnTo>
                        <a:pt x="2375" y="771"/>
                      </a:lnTo>
                      <a:lnTo>
                        <a:pt x="2233" y="723"/>
                      </a:lnTo>
                      <a:lnTo>
                        <a:pt x="2080" y="650"/>
                      </a:lnTo>
                      <a:lnTo>
                        <a:pt x="1948" y="614"/>
                      </a:lnTo>
                      <a:lnTo>
                        <a:pt x="1840" y="599"/>
                      </a:lnTo>
                      <a:lnTo>
                        <a:pt x="1712" y="599"/>
                      </a:lnTo>
                      <a:lnTo>
                        <a:pt x="1563" y="606"/>
                      </a:lnTo>
                      <a:lnTo>
                        <a:pt x="1448" y="599"/>
                      </a:lnTo>
                      <a:lnTo>
                        <a:pt x="1308" y="593"/>
                      </a:lnTo>
                      <a:lnTo>
                        <a:pt x="1189" y="567"/>
                      </a:lnTo>
                      <a:lnTo>
                        <a:pt x="1076" y="548"/>
                      </a:lnTo>
                      <a:lnTo>
                        <a:pt x="953" y="519"/>
                      </a:lnTo>
                      <a:lnTo>
                        <a:pt x="829" y="472"/>
                      </a:lnTo>
                      <a:lnTo>
                        <a:pt x="687" y="414"/>
                      </a:lnTo>
                      <a:lnTo>
                        <a:pt x="574" y="385"/>
                      </a:lnTo>
                      <a:lnTo>
                        <a:pt x="461" y="363"/>
                      </a:lnTo>
                      <a:lnTo>
                        <a:pt x="451" y="366"/>
                      </a:lnTo>
                      <a:lnTo>
                        <a:pt x="342" y="355"/>
                      </a:lnTo>
                      <a:lnTo>
                        <a:pt x="200" y="348"/>
                      </a:lnTo>
                      <a:lnTo>
                        <a:pt x="189" y="351"/>
                      </a:lnTo>
                      <a:lnTo>
                        <a:pt x="79" y="348"/>
                      </a:lnTo>
                      <a:lnTo>
                        <a:pt x="40" y="338"/>
                      </a:lnTo>
                      <a:lnTo>
                        <a:pt x="51" y="342"/>
                      </a:lnTo>
                      <a:lnTo>
                        <a:pt x="51" y="315"/>
                      </a:lnTo>
                      <a:lnTo>
                        <a:pt x="59" y="276"/>
                      </a:lnTo>
                      <a:lnTo>
                        <a:pt x="106" y="210"/>
                      </a:lnTo>
                      <a:lnTo>
                        <a:pt x="138" y="138"/>
                      </a:lnTo>
                      <a:lnTo>
                        <a:pt x="153" y="79"/>
                      </a:lnTo>
                      <a:lnTo>
                        <a:pt x="142" y="79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42400" y="4268520"/>
                  <a:ext cx="1922760" cy="1846440"/>
                </a:xfrm>
                <a:custGeom>
                  <a:avLst/>
                  <a:gdLst/>
                  <a:ahLst/>
                  <a:rect l="l" t="t" r="r" b="b"/>
                  <a:pathLst>
                    <a:path w="2426" h="2325">
                      <a:moveTo>
                        <a:pt x="2301" y="2325"/>
                      </a:moveTo>
                      <a:lnTo>
                        <a:pt x="2316" y="2248"/>
                      </a:lnTo>
                      <a:lnTo>
                        <a:pt x="2309" y="2125"/>
                      </a:lnTo>
                      <a:lnTo>
                        <a:pt x="2280" y="2015"/>
                      </a:lnTo>
                      <a:lnTo>
                        <a:pt x="2246" y="1896"/>
                      </a:lnTo>
                      <a:lnTo>
                        <a:pt x="2237" y="1800"/>
                      </a:lnTo>
                      <a:lnTo>
                        <a:pt x="2243" y="1736"/>
                      </a:lnTo>
                      <a:lnTo>
                        <a:pt x="2273" y="1634"/>
                      </a:lnTo>
                      <a:lnTo>
                        <a:pt x="2305" y="1536"/>
                      </a:lnTo>
                      <a:lnTo>
                        <a:pt x="2324" y="1445"/>
                      </a:lnTo>
                      <a:lnTo>
                        <a:pt x="2335" y="1301"/>
                      </a:lnTo>
                      <a:lnTo>
                        <a:pt x="2324" y="1103"/>
                      </a:lnTo>
                      <a:lnTo>
                        <a:pt x="2313" y="927"/>
                      </a:lnTo>
                      <a:lnTo>
                        <a:pt x="2280" y="669"/>
                      </a:lnTo>
                      <a:lnTo>
                        <a:pt x="2254" y="519"/>
                      </a:lnTo>
                      <a:lnTo>
                        <a:pt x="2254" y="432"/>
                      </a:lnTo>
                      <a:lnTo>
                        <a:pt x="2265" y="370"/>
                      </a:lnTo>
                      <a:lnTo>
                        <a:pt x="2284" y="319"/>
                      </a:lnTo>
                      <a:lnTo>
                        <a:pt x="2320" y="251"/>
                      </a:lnTo>
                      <a:lnTo>
                        <a:pt x="2375" y="181"/>
                      </a:lnTo>
                      <a:lnTo>
                        <a:pt x="2411" y="145"/>
                      </a:lnTo>
                      <a:lnTo>
                        <a:pt x="2426" y="119"/>
                      </a:lnTo>
                      <a:lnTo>
                        <a:pt x="2422" y="94"/>
                      </a:lnTo>
                      <a:lnTo>
                        <a:pt x="2386" y="62"/>
                      </a:lnTo>
                      <a:lnTo>
                        <a:pt x="2309" y="32"/>
                      </a:lnTo>
                      <a:lnTo>
                        <a:pt x="2207" y="15"/>
                      </a:lnTo>
                      <a:lnTo>
                        <a:pt x="2084" y="4"/>
                      </a:lnTo>
                      <a:lnTo>
                        <a:pt x="1956" y="0"/>
                      </a:lnTo>
                      <a:lnTo>
                        <a:pt x="1837" y="15"/>
                      </a:lnTo>
                      <a:lnTo>
                        <a:pt x="1724" y="55"/>
                      </a:lnTo>
                      <a:lnTo>
                        <a:pt x="1614" y="83"/>
                      </a:lnTo>
                      <a:lnTo>
                        <a:pt x="1520" y="126"/>
                      </a:lnTo>
                      <a:lnTo>
                        <a:pt x="1422" y="189"/>
                      </a:lnTo>
                      <a:lnTo>
                        <a:pt x="1350" y="228"/>
                      </a:lnTo>
                      <a:lnTo>
                        <a:pt x="1265" y="262"/>
                      </a:lnTo>
                      <a:lnTo>
                        <a:pt x="1186" y="276"/>
                      </a:lnTo>
                      <a:lnTo>
                        <a:pt x="1052" y="291"/>
                      </a:lnTo>
                      <a:lnTo>
                        <a:pt x="920" y="291"/>
                      </a:lnTo>
                      <a:lnTo>
                        <a:pt x="786" y="276"/>
                      </a:lnTo>
                      <a:lnTo>
                        <a:pt x="687" y="262"/>
                      </a:lnTo>
                      <a:lnTo>
                        <a:pt x="546" y="251"/>
                      </a:lnTo>
                      <a:lnTo>
                        <a:pt x="417" y="244"/>
                      </a:lnTo>
                      <a:lnTo>
                        <a:pt x="272" y="251"/>
                      </a:lnTo>
                      <a:lnTo>
                        <a:pt x="263" y="255"/>
                      </a:lnTo>
                      <a:lnTo>
                        <a:pt x="157" y="276"/>
                      </a:lnTo>
                      <a:lnTo>
                        <a:pt x="40" y="323"/>
                      </a:lnTo>
                      <a:lnTo>
                        <a:pt x="0" y="385"/>
                      </a:lnTo>
                      <a:lnTo>
                        <a:pt x="4" y="429"/>
                      </a:lnTo>
                      <a:lnTo>
                        <a:pt x="21" y="455"/>
                      </a:lnTo>
                      <a:lnTo>
                        <a:pt x="40" y="400"/>
                      </a:lnTo>
                      <a:lnTo>
                        <a:pt x="91" y="361"/>
                      </a:lnTo>
                      <a:lnTo>
                        <a:pt x="166" y="323"/>
                      </a:lnTo>
                      <a:lnTo>
                        <a:pt x="248" y="302"/>
                      </a:lnTo>
                      <a:lnTo>
                        <a:pt x="331" y="298"/>
                      </a:lnTo>
                      <a:lnTo>
                        <a:pt x="448" y="298"/>
                      </a:lnTo>
                      <a:lnTo>
                        <a:pt x="557" y="298"/>
                      </a:lnTo>
                      <a:lnTo>
                        <a:pt x="716" y="315"/>
                      </a:lnTo>
                      <a:lnTo>
                        <a:pt x="810" y="334"/>
                      </a:lnTo>
                      <a:lnTo>
                        <a:pt x="920" y="342"/>
                      </a:lnTo>
                      <a:lnTo>
                        <a:pt x="1025" y="338"/>
                      </a:lnTo>
                      <a:lnTo>
                        <a:pt x="1150" y="330"/>
                      </a:lnTo>
                      <a:lnTo>
                        <a:pt x="1244" y="312"/>
                      </a:lnTo>
                      <a:lnTo>
                        <a:pt x="1390" y="262"/>
                      </a:lnTo>
                      <a:lnTo>
                        <a:pt x="1491" y="200"/>
                      </a:lnTo>
                      <a:lnTo>
                        <a:pt x="1597" y="134"/>
                      </a:lnTo>
                      <a:lnTo>
                        <a:pt x="1727" y="94"/>
                      </a:lnTo>
                      <a:lnTo>
                        <a:pt x="1837" y="62"/>
                      </a:lnTo>
                      <a:lnTo>
                        <a:pt x="1967" y="47"/>
                      </a:lnTo>
                      <a:lnTo>
                        <a:pt x="2109" y="47"/>
                      </a:lnTo>
                      <a:lnTo>
                        <a:pt x="2218" y="62"/>
                      </a:lnTo>
                      <a:lnTo>
                        <a:pt x="2316" y="87"/>
                      </a:lnTo>
                      <a:lnTo>
                        <a:pt x="2360" y="113"/>
                      </a:lnTo>
                      <a:lnTo>
                        <a:pt x="2356" y="138"/>
                      </a:lnTo>
                      <a:lnTo>
                        <a:pt x="2294" y="196"/>
                      </a:lnTo>
                      <a:lnTo>
                        <a:pt x="2254" y="264"/>
                      </a:lnTo>
                      <a:lnTo>
                        <a:pt x="2226" y="346"/>
                      </a:lnTo>
                      <a:lnTo>
                        <a:pt x="2211" y="417"/>
                      </a:lnTo>
                      <a:lnTo>
                        <a:pt x="2211" y="502"/>
                      </a:lnTo>
                      <a:lnTo>
                        <a:pt x="2222" y="597"/>
                      </a:lnTo>
                      <a:lnTo>
                        <a:pt x="2246" y="706"/>
                      </a:lnTo>
                      <a:lnTo>
                        <a:pt x="2265" y="829"/>
                      </a:lnTo>
                      <a:lnTo>
                        <a:pt x="2277" y="959"/>
                      </a:lnTo>
                      <a:lnTo>
                        <a:pt x="2288" y="1131"/>
                      </a:lnTo>
                      <a:lnTo>
                        <a:pt x="2292" y="1288"/>
                      </a:lnTo>
                      <a:lnTo>
                        <a:pt x="2280" y="1430"/>
                      </a:lnTo>
                      <a:lnTo>
                        <a:pt x="2280" y="1441"/>
                      </a:lnTo>
                      <a:lnTo>
                        <a:pt x="2254" y="1547"/>
                      </a:lnTo>
                      <a:lnTo>
                        <a:pt x="2218" y="1658"/>
                      </a:lnTo>
                      <a:lnTo>
                        <a:pt x="2199" y="1768"/>
                      </a:lnTo>
                      <a:lnTo>
                        <a:pt x="2194" y="1855"/>
                      </a:lnTo>
                      <a:lnTo>
                        <a:pt x="2207" y="1917"/>
                      </a:lnTo>
                      <a:lnTo>
                        <a:pt x="2241" y="2019"/>
                      </a:lnTo>
                      <a:lnTo>
                        <a:pt x="2262" y="2110"/>
                      </a:lnTo>
                      <a:lnTo>
                        <a:pt x="2265" y="2204"/>
                      </a:lnTo>
                      <a:lnTo>
                        <a:pt x="2250" y="2285"/>
                      </a:lnTo>
                      <a:lnTo>
                        <a:pt x="2269" y="2325"/>
                      </a:lnTo>
                      <a:lnTo>
                        <a:pt x="2301" y="23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226560" y="4530600"/>
                  <a:ext cx="101160" cy="1008000"/>
                </a:xfrm>
                <a:custGeom>
                  <a:avLst/>
                  <a:gdLst/>
                  <a:ahLst/>
                  <a:rect l="l" t="t" r="r" b="b"/>
                  <a:pathLst>
                    <a:path w="129" h="1270">
                      <a:moveTo>
                        <a:pt x="66" y="0"/>
                      </a:moveTo>
                      <a:lnTo>
                        <a:pt x="16" y="63"/>
                      </a:lnTo>
                      <a:lnTo>
                        <a:pt x="0" y="121"/>
                      </a:lnTo>
                      <a:lnTo>
                        <a:pt x="23" y="180"/>
                      </a:lnTo>
                      <a:lnTo>
                        <a:pt x="59" y="271"/>
                      </a:lnTo>
                      <a:lnTo>
                        <a:pt x="74" y="357"/>
                      </a:lnTo>
                      <a:lnTo>
                        <a:pt x="78" y="448"/>
                      </a:lnTo>
                      <a:lnTo>
                        <a:pt x="55" y="582"/>
                      </a:lnTo>
                      <a:lnTo>
                        <a:pt x="38" y="699"/>
                      </a:lnTo>
                      <a:lnTo>
                        <a:pt x="16" y="833"/>
                      </a:lnTo>
                      <a:lnTo>
                        <a:pt x="16" y="958"/>
                      </a:lnTo>
                      <a:lnTo>
                        <a:pt x="27" y="1073"/>
                      </a:lnTo>
                      <a:lnTo>
                        <a:pt x="31" y="1223"/>
                      </a:lnTo>
                      <a:lnTo>
                        <a:pt x="38" y="1270"/>
                      </a:lnTo>
                      <a:lnTo>
                        <a:pt x="66" y="1241"/>
                      </a:lnTo>
                      <a:lnTo>
                        <a:pt x="82" y="1132"/>
                      </a:lnTo>
                      <a:lnTo>
                        <a:pt x="82" y="1009"/>
                      </a:lnTo>
                      <a:lnTo>
                        <a:pt x="63" y="903"/>
                      </a:lnTo>
                      <a:lnTo>
                        <a:pt x="63" y="830"/>
                      </a:lnTo>
                      <a:lnTo>
                        <a:pt x="82" y="735"/>
                      </a:lnTo>
                      <a:lnTo>
                        <a:pt x="108" y="605"/>
                      </a:lnTo>
                      <a:lnTo>
                        <a:pt x="129" y="484"/>
                      </a:lnTo>
                      <a:lnTo>
                        <a:pt x="121" y="376"/>
                      </a:lnTo>
                      <a:lnTo>
                        <a:pt x="117" y="318"/>
                      </a:lnTo>
                      <a:lnTo>
                        <a:pt x="97" y="220"/>
                      </a:lnTo>
                      <a:lnTo>
                        <a:pt x="59" y="125"/>
                      </a:lnTo>
                      <a:lnTo>
                        <a:pt x="46" y="51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284720" y="4149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284720" y="5229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8000" y="3645000"/>
            <a:ext cx="9036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7200"/>
            </a:br>
            <a:r>
              <a:rPr b="0" lang="en-NZ" sz="5000" spc="-1" strike="noStrike">
                <a:solidFill>
                  <a:srgbClr val="ff3300"/>
                </a:solidFill>
                <a:latin typeface="Kristen ITC"/>
              </a:rPr>
              <a:t>Which class did Waka Roo see sitting beautifull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89000"/>
            <a:ext cx="770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000" spc="-1" strike="noStrike">
                <a:solidFill>
                  <a:srgbClr val="ff3300"/>
                </a:solidFill>
                <a:latin typeface="Kristen ITC"/>
              </a:rPr>
              <a:t>Mystery Teach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720" y="260280"/>
            <a:ext cx="4464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Kristen ITC"/>
              </a:rPr>
              <a:t>Please sit quietly and wait for your teacher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4825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Kristen ITC"/>
              </a:rPr>
              <a:t>Thank you for attending our Year Four assembl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99"/>
                </a:solidFill>
                <a:latin typeface="Kristen ITC"/>
              </a:rPr>
              <a:t>Introducing…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55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99"/>
                </a:solidFill>
                <a:latin typeface="Kristen ITC"/>
              </a:rPr>
              <a:t>Insert presenters names her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51280" y="4292640"/>
            <a:ext cx="1339920" cy="2006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1977840" cy="2637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04000" y="3789360"/>
            <a:ext cx="192708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62064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99"/>
                </a:solidFill>
                <a:latin typeface="Kristen ITC"/>
              </a:rPr>
              <a:t>Please close your eyes for the prayer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040360" cy="37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7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99"/>
                </a:solidFill>
                <a:latin typeface="Kristen ITC"/>
              </a:rPr>
              <a:t>Please stand quietly to sing the national anthem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429000"/>
            <a:ext cx="5796000" cy="29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99"/>
                </a:solidFill>
                <a:latin typeface="Kristen ITC"/>
              </a:rPr>
              <a:t>The National Anth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E I ho wa A tu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O nga  I wi Ma tou 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A ta wha ka ro ngo 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Me A ro ha no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Ki a hua ko te pa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Ki a tau to a ta wha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Ma na a ki ti a ma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99"/>
                </a:solidFill>
                <a:latin typeface="Kristen ITC"/>
              </a:rPr>
              <a:t>Aotearo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od of Nations at thy f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In the bonds of love we m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Hear our voices we entre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od defend our Free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uard Pacific’s triple st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From the shafts of strife and w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Make her praises heard af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God defend New Zea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0400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NZ" sz="4000" spc="-1" strike="noStrike">
                <a:solidFill>
                  <a:srgbClr val="000099"/>
                </a:solidFill>
                <a:latin typeface="Kristen ITC"/>
              </a:rPr>
              <a:t>Make sure you’re sitting up straight and quietly…</a:t>
            </a:r>
            <a:br>
              <a:rPr sz="4000"/>
            </a:b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Waka Roo is </a:t>
            </a: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watching </a:t>
            </a: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for the best </a:t>
            </a:r>
            <a:br>
              <a:rPr sz="4800"/>
            </a:br>
            <a:r>
              <a:rPr b="0" lang="en-NZ" sz="4800" spc="-1" strike="noStrike">
                <a:solidFill>
                  <a:srgbClr val="000099"/>
                </a:solidFill>
                <a:latin typeface="Kristen ITC"/>
              </a:rPr>
              <a:t>behaved clas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308720" y="2565360"/>
            <a:ext cx="1014480" cy="15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99"/>
                </a:solidFill>
                <a:latin typeface="Kristen ITC"/>
              </a:rPr>
              <a:t>Mrs Dale could you please present the senior school Certificates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99"/>
                </a:solidFill>
                <a:latin typeface="Kristen ITC"/>
              </a:rPr>
              <a:t>Please stand quietly to sing…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06:18:00Z</dcterms:created>
  <dc:creator>furness</dc:creator>
  <dc:description/>
  <dc:language>en-US</dc:language>
  <cp:lastModifiedBy>Samuel</cp:lastModifiedBy>
  <dcterms:modified xsi:type="dcterms:W3CDTF">2012-08-11T22:06:29Z</dcterms:modified>
  <cp:revision>391</cp:revision>
  <dc:subject/>
  <dc:title>Slide 1</dc:title>
</cp:coreProperties>
</file>